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64E-5CE3-4DD9-916C-6DC3B0A9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6C6-631C-407B-BAFC-98E2128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3D3-2FE4-4640-A46C-762B0F49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062-6BCD-402A-842E-0F25D742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6C1-FEEC-448F-B30F-E6B94A2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F01-2DE4-464C-A7A8-2DAA300E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DF0-4BDC-4F5C-A90C-275A91F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70F-F859-443A-8C41-D91AA695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071-0F97-45BF-8282-63C68EE3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3C1-82AD-4805-8000-7EBCFA3D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C89-5DD0-4245-9D7C-1727E1C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54D-5547-4C48-94BD-22B40FDA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89093-763C-47FF-B269-9DEC737F52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leão" descr=""/>
          <p:cNvPicPr/>
          <p:nvPr/>
        </p:nvPicPr>
        <p:blipFill>
          <a:blip r:embed=""/>
          <a:stretch/>
        </p:blipFill>
        <p:spPr>
          <a:xfrm>
            <a:off x="320760" y="2519280"/>
            <a:ext cx="477504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40360" y="1079640"/>
            <a:ext cx="46576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Um Leão foi acordado por um Rato que passou correndo sobre seu rosto. Com um salto ágil ele o capturou e estava pronto para matá-lo, quando o Rato suplico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219640" y="176004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- Se o senhor poupasse minha vida, tenho certeza que poderia um dia retribuir sua bon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O Leão deu uma gargalhada de desprezo e o solt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aton" descr=""/>
          <p:cNvPicPr/>
          <p:nvPr/>
        </p:nvPicPr>
        <p:blipFill>
          <a:blip r:embed=""/>
          <a:stretch/>
        </p:blipFill>
        <p:spPr>
          <a:xfrm>
            <a:off x="720720" y="900000"/>
            <a:ext cx="41403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859280" y="144000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Aconteceu que pouco depois disso o Leão foi capturado por caçadores que o amarraram com fortes cordas no ch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at12" descr=""/>
          <p:cNvPicPr/>
          <p:nvPr/>
        </p:nvPicPr>
        <p:blipFill>
          <a:blip r:embed=""/>
          <a:stretch/>
        </p:blipFill>
        <p:spPr>
          <a:xfrm>
            <a:off x="360360" y="1800360"/>
            <a:ext cx="436104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33440" y="860400"/>
            <a:ext cx="442620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O Rato, reconhecendo seu rugido, se aproximou, roeu as cordas e libertou-o dize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- O senhor achou ridículo a idéia de que eu jamais seria capaz de ajudá-lo. Nunca esperava receber de mim qualquer compensação pelo seu favor; Mas agora sabe que é possivel mesmo a um Rato conceber um favor a um poderoso Leã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ni_063" descr=""/>
          <p:cNvPicPr/>
          <p:nvPr/>
        </p:nvPicPr>
        <p:blipFill>
          <a:blip r:embed=""/>
          <a:stretch/>
        </p:blipFill>
        <p:spPr>
          <a:xfrm>
            <a:off x="720720" y="1619280"/>
            <a:ext cx="442116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5580000"/>
            <a:ext cx="936000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ral da Hist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pequenos amigos podem se revelar grandes al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oh_turma_glitter_01" descr=""/>
          <p:cNvPicPr/>
          <p:nvPr/>
        </p:nvPicPr>
        <p:blipFill>
          <a:blip r:embed=""/>
          <a:stretch/>
        </p:blipFill>
        <p:spPr>
          <a:xfrm>
            <a:off x="1079640" y="360360"/>
            <a:ext cx="792000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23:31Z</dcterms:created>
  <dc:creator/>
  <dc:description/>
  <dc:language>en-US</dc:language>
  <cp:lastModifiedBy/>
  <cp:revision>1</cp:revision>
  <dc:subject/>
  <dc:title/>
</cp:coreProperties>
</file>